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0BC-49A0-4E19-96D8-F4B22E06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725-375E-4BC5-9D1C-6741C1D3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350-2DC3-4778-A0A7-18CF091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762-0753-482B-935E-E94DE348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BD9E-3FB7-4662-9577-7E86CF8E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BE8-2804-496D-B32C-F8AA978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138-3092-4B49-A3D5-5122AD8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FB3-AA91-4414-A4B3-B72497D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0654-C7E9-4CE0-9716-228AEAB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252-7B07-4AC6-A61A-C10A51C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401F-62E6-47CE-8E60-D9CB28C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77B-038F-4BE3-A813-26BEDB53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6C4-33A9-4875-9CAE-6BA196C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B1B-60CE-4B6A-8336-62B83A5B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A83-C0A7-4A48-B2C7-79B639E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62E-F272-45BC-8BE4-1B30A92D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96E-B6F7-46FA-A669-5C7BA0BC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367-D685-46E7-8E5B-DDC3844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005-546D-4D04-9705-C0D9AC2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690-3AD6-4F97-813A-1E92AF6B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813-A6CA-4A83-8B30-E0EFB548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0DA-A252-4C65-877E-D959D36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70E-FB5E-4F6D-8906-3D10ADA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F14-DDA4-4BB8-8C8A-A2AAEEB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300-33B1-4FE7-B2A4-1BB2F06A81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FD6-F6F9-4A9B-826F-4A081DE8E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333399"/>
                </a:solidFill>
                <a:latin typeface="Angsana New"/>
              </a:rPr>
              <a:t>การบันทึกภาพจากอุปกรณ์รับภาพ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640" y="335772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</a:rPr>
              <a:t>โดยใช้   </a:t>
            </a:r>
            <a:r>
              <a:rPr b="1" sz="4800" spc="-1" strike="noStrike">
                <a:solidFill>
                  <a:srgbClr val="ff0000"/>
                </a:solidFill>
                <a:latin typeface="Angsana New"/>
              </a:rPr>
              <a:t>Video for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</a:rPr>
              <a:t>W</a:t>
            </a:r>
            <a:r>
              <a:rPr b="1" sz="4800" spc="-1" strike="noStrike">
                <a:solidFill>
                  <a:srgbClr val="ff0000"/>
                </a:solidFill>
                <a:latin typeface="Angsana New"/>
              </a:rPr>
              <a:t>indows  libra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4149720"/>
            <a:ext cx="532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08000" y="3644640"/>
            <a:ext cx="532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08000" y="2637000"/>
            <a:ext cx="5328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205000"/>
            <a:ext cx="54734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ผู้ใช้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381800" y="2133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2133720"/>
            <a:ext cx="1440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7440" y="2924280"/>
            <a:ext cx="1800360" cy="208908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โปรแกรมประยุกต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บบปฏิบัติ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573360"/>
            <a:ext cx="1079280" cy="865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ผู้ใช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429080" y="2565360"/>
            <a:ext cx="79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5440" y="256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1800" y="3141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141720"/>
            <a:ext cx="1440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544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465300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653000"/>
            <a:ext cx="1440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427640" y="3500280"/>
            <a:ext cx="79200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1440" y="4149720"/>
            <a:ext cx="7164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21440" y="4292640"/>
            <a:ext cx="7164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1440" y="4437000"/>
            <a:ext cx="7164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2411280" y="2707920"/>
            <a:ext cx="4248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11280" y="3499920"/>
            <a:ext cx="41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005360"/>
            <a:ext cx="424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149720"/>
            <a:ext cx="417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2205000"/>
            <a:ext cx="43214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นักพัฒนา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805440" y="2133720"/>
            <a:ext cx="100836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429000"/>
            <a:ext cx="107964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5440" y="3141720"/>
            <a:ext cx="100836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5157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4149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378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084720" y="2637000"/>
            <a:ext cx="5032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84720" y="3499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393372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4149720"/>
            <a:ext cx="5032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1916280"/>
            <a:ext cx="2735280" cy="446544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(Application Programming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060640"/>
            <a:ext cx="648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2205000"/>
            <a:ext cx="79236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2205000"/>
            <a:ext cx="1440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Specific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4149720"/>
            <a:ext cx="1440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Standard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411280" y="2637000"/>
            <a:ext cx="151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3932280"/>
            <a:ext cx="151308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565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80000" y="357300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479736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45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Windows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58920" y="1916280"/>
            <a:ext cx="6551640" cy="4681440"/>
            <a:chOff x="1258920" y="1916280"/>
            <a:chExt cx="6551640" cy="4681440"/>
          </a:xfrm>
        </p:grpSpPr>
        <p:sp>
          <p:nvSpPr>
            <p:cNvPr id="153" name=""/>
            <p:cNvSpPr/>
            <p:nvPr/>
          </p:nvSpPr>
          <p:spPr>
            <a:xfrm>
              <a:off x="3564000" y="1989000"/>
              <a:ext cx="2303280" cy="4608720"/>
            </a:xfrm>
            <a:prstGeom prst="rect">
              <a:avLst/>
            </a:prstGeom>
            <a:solidFill>
              <a:srgbClr val="d7fe7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ngsana New"/>
                </a:rPr>
                <a:t>Windows AP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(Standard AP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04000" y="1916280"/>
              <a:ext cx="100656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5640" y="2133720"/>
              <a:ext cx="1440000" cy="647640"/>
            </a:xfrm>
            <a:prstGeom prst="rect">
              <a:avLst/>
            </a:prstGeom>
            <a:solidFill>
              <a:srgbClr val="a0fe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ngsana New"/>
                </a:rPr>
                <a:t>Multimed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8920" y="3213000"/>
              <a:ext cx="1079640" cy="8654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Angsana New"/>
                </a:rPr>
                <a:t>นักพัฒน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411280" y="2637000"/>
              <a:ext cx="151308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80000" y="2204640"/>
              <a:ext cx="107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80000" y="249228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5640" y="2924280"/>
              <a:ext cx="144000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Direct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2637000"/>
              <a:ext cx="107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64500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563920"/>
              <a:ext cx="100656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4000" y="321156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393228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04000" y="457992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04000" y="522756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04000" y="594828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5640" y="5084640"/>
              <a:ext cx="1440000" cy="648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A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3280" y="4365720"/>
              <a:ext cx="144720" cy="71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3280" y="4581360"/>
              <a:ext cx="144720" cy="71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43280" y="4797360"/>
              <a:ext cx="144720" cy="71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11280" y="3860640"/>
              <a:ext cx="1440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0000" y="3141720"/>
              <a:ext cx="10796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0000" y="386064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0000" y="4005360"/>
              <a:ext cx="1079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0000" y="5373720"/>
              <a:ext cx="1152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0000" y="5516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95640" y="3645000"/>
              <a:ext cx="144000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80000" y="3284640"/>
              <a:ext cx="107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Multimedia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1280" y="1916280"/>
            <a:ext cx="7199280" cy="4681440"/>
            <a:chOff x="611280" y="1916280"/>
            <a:chExt cx="7199280" cy="4681440"/>
          </a:xfrm>
        </p:grpSpPr>
        <p:sp>
          <p:nvSpPr>
            <p:cNvPr id="183" name=""/>
            <p:cNvSpPr/>
            <p:nvPr/>
          </p:nvSpPr>
          <p:spPr>
            <a:xfrm>
              <a:off x="2987640" y="1989000"/>
              <a:ext cx="2879640" cy="4608720"/>
            </a:xfrm>
            <a:prstGeom prst="rect">
              <a:avLst/>
            </a:prstGeom>
            <a:solidFill>
              <a:srgbClr val="d7fe7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ngsana New"/>
                </a:rPr>
                <a:t>Multimedia AP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4000" y="1916280"/>
              <a:ext cx="100656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48000" y="2131920"/>
              <a:ext cx="2232000" cy="863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M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(Multimedia Control Interfa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280" y="3213000"/>
              <a:ext cx="1079280" cy="8654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Angsana New"/>
                </a:rPr>
                <a:t>นักพัฒน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63640" y="2565000"/>
              <a:ext cx="1513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580000" y="2205000"/>
              <a:ext cx="1079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0000" y="2637000"/>
              <a:ext cx="1079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8000" y="3213000"/>
              <a:ext cx="2232000" cy="863640"/>
            </a:xfrm>
            <a:prstGeom prst="rect">
              <a:avLst/>
            </a:prstGeom>
            <a:solidFill>
              <a:srgbClr val="a0fe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ngsana New"/>
                </a:rPr>
                <a:t>VF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ngsana New"/>
                </a:rPr>
                <a:t>(Video for Window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80000" y="278136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5280" y="3645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4000" y="2563920"/>
              <a:ext cx="1006560" cy="57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04000" y="321156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4000" y="393228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04000" y="457992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4000" y="522756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04000" y="5948280"/>
              <a:ext cx="100656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Angsana New"/>
                </a:rPr>
                <a:t>อุปกรณ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ngsana New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8000" y="4869000"/>
              <a:ext cx="2087640" cy="863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</a:rPr>
                <a:t>A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6000" y="4221000"/>
              <a:ext cx="144720" cy="71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6000" y="4437000"/>
              <a:ext cx="144720" cy="71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56000" y="4653000"/>
              <a:ext cx="144720" cy="71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3789360"/>
              <a:ext cx="1439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80000" y="35002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0000" y="3645000"/>
              <a:ext cx="1079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0000" y="386064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1640" y="5229360"/>
              <a:ext cx="1081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80000" y="5373720"/>
              <a:ext cx="11527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84360" y="1989000"/>
            <a:ext cx="4392720" cy="439272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Video for Window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9440" y="2205000"/>
            <a:ext cx="187164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CreateCaptureWind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89440" y="2924280"/>
            <a:ext cx="187164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DriverConn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3645000"/>
            <a:ext cx="187164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P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Previe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9440" y="4365720"/>
            <a:ext cx="187164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Previe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9440" y="5084640"/>
            <a:ext cx="187164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Dis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DriverDisconn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3645000"/>
            <a:ext cx="79236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หน่วยความจ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03640" y="4005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932360" y="4292640"/>
            <a:ext cx="12952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46160" y="465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0840" y="39337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836720" y="2492280"/>
            <a:ext cx="1081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36720" y="3213000"/>
            <a:ext cx="1008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3213000"/>
            <a:ext cx="216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6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443640" y="256536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16360" y="3284640"/>
            <a:ext cx="64764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35280" y="39337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4076640"/>
            <a:ext cx="100800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8028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Video for Windows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2924280"/>
            <a:ext cx="129384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รับภา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357720"/>
            <a:ext cx="107928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2205000"/>
            <a:ext cx="129384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แสดงภา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1916280"/>
            <a:ext cx="540072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4360" y="1989000"/>
            <a:ext cx="4392720" cy="4392720"/>
            <a:chOff x="2484360" y="1989000"/>
            <a:chExt cx="4392720" cy="4392720"/>
          </a:xfrm>
        </p:grpSpPr>
        <p:sp>
          <p:nvSpPr>
            <p:cNvPr id="236" name=""/>
            <p:cNvSpPr/>
            <p:nvPr/>
          </p:nvSpPr>
          <p:spPr>
            <a:xfrm>
              <a:off x="2484360" y="1989000"/>
              <a:ext cx="4392720" cy="4392720"/>
            </a:xfrm>
            <a:prstGeom prst="rect">
              <a:avLst/>
            </a:prstGeom>
            <a:solidFill>
              <a:srgbClr val="d7fe7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</a:rPr>
                <a:t>Video for Windows AP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9440" y="2205000"/>
              <a:ext cx="1871640" cy="576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1. 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ngsana New"/>
                </a:rPr>
                <a:t>capCreateCaptureWindow(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89440" y="2924280"/>
              <a:ext cx="1871640" cy="5760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2. 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ngsana New"/>
                </a:rPr>
                <a:t>capDriverConnect(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89440" y="3645000"/>
              <a:ext cx="1871640" cy="574560"/>
            </a:xfrm>
            <a:prstGeom prst="rect">
              <a:avLst/>
            </a:prstGeom>
            <a:solidFill>
              <a:srgbClr val="a0fe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3. Pre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ngsana New"/>
                </a:rPr>
                <a:t>capPreview(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89440" y="4365720"/>
              <a:ext cx="1871640" cy="574560"/>
            </a:xfrm>
            <a:prstGeom prst="rect">
              <a:avLst/>
            </a:prstGeom>
            <a:solidFill>
              <a:srgbClr val="a0fe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4.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ngsana New"/>
                </a:rPr>
                <a:t>capPreview(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89440" y="5084640"/>
              <a:ext cx="1871640" cy="5749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</a:rPr>
                <a:t>5. Dis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ngsana New"/>
                </a:rPr>
                <a:t>capDriverDisconnec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สรุป</a:t>
            </a:r>
            <a:r>
              <a:rPr b="1" sz="4400" spc="-1" strike="noStrike">
                <a:solidFill>
                  <a:srgbClr val="333399"/>
                </a:solidFill>
                <a:latin typeface="Angsana New"/>
              </a:rPr>
              <a:t>การเรียกใช้ </a:t>
            </a:r>
            <a:r>
              <a:rPr b="1" sz="4400" spc="-1" strike="noStrike">
                <a:solidFill>
                  <a:srgbClr val="333399"/>
                </a:solidFill>
                <a:latin typeface="Angsana New"/>
              </a:rPr>
              <a:t>Video for windows 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1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ร้างพื้นที่ในการแสดงผล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reate a capture window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2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ิดต่อกับอุปกรณ์รับภาพ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onnect to capture driv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3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สดงภาพบนพื้นที่ที่เตรียมไว้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Preview video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4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จับภาพที่แสดงลงแฟ้มหรือหน่วยความจำตำแหน่งอื่น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apture video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ยกเลิกการติดต่อกับอุปกรณ์รับภาพ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Disconnect from capture driv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52960" y="82440"/>
            <a:ext cx="45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cf01"/>
                </a:solidFill>
                <a:latin typeface="Angsana New"/>
              </a:rPr>
              <a:t>จบการนำเสน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3:41:03Z</dcterms:created>
  <dc:creator>Witchanet</dc:creator>
  <dc:description/>
  <dc:language>en-US</dc:language>
  <cp:lastModifiedBy>Witchanet</cp:lastModifiedBy>
  <dcterms:modified xsi:type="dcterms:W3CDTF">2004-09-14T09:32:28Z</dcterms:modified>
  <cp:revision>22</cp:revision>
  <dc:subject/>
  <dc:title>การบันทึกภาพจากอุปกรณ์รับภาพ</dc:title>
</cp:coreProperties>
</file>