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194-3C54-4FCD-AB9B-1AFEF7EA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5FC-F879-4721-8B7E-EE07E17A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C77-C6B9-4E6D-B771-07B182A4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31E-6E64-4E95-89B2-D42308B5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AAB4-1EA9-4F3E-903F-D932DABE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DF8E-A34B-4558-9B1B-48BBE625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E938-DC2E-4045-8324-6A9D00D3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2217-E476-4211-B1E2-0C00B321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4E82-A4C4-46A9-9FD6-EA97C9A9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813A-DFB3-4374-9567-EFF5C89D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2368-0440-414C-AED0-585804D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6C2-D502-4B03-A2A4-23ED4A46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A206-CE5F-426B-9C2E-6558FF0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8D30-B31C-4168-B8C6-63289975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6D8D-CE9C-4943-90C0-923827A1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13AD-2A24-4C6F-AB32-BDAAB114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5DD8-B606-44E6-A842-E6437DD5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EEB-B591-473D-ABE5-516A1709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11E-CA5F-4BE4-A577-FE7473F8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FFC-0B2B-4E0C-95FC-B153747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A3F-CA8B-4FD7-B0FA-CAD05A7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B9F-088E-4059-84CC-F65F529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D44-AE83-41F7-B63A-A4DC7754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F43-5751-4659-89EE-3976C5D2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A184-CD4F-4C22-90F3-2F7EFE1B99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121E-8183-49BE-9517-FAEDF88EC3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333399"/>
                </a:solidFill>
                <a:latin typeface="Angsana New"/>
              </a:rPr>
              <a:t>การบันทึกภาพจากอุปกรณ์รับภาพ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640" y="335772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</a:rPr>
              <a:t>โดยใช้   </a:t>
            </a:r>
            <a:r>
              <a:rPr b="1" sz="4800" spc="-1" strike="noStrike">
                <a:solidFill>
                  <a:srgbClr val="ff0000"/>
                </a:solidFill>
                <a:latin typeface="Angsana New"/>
              </a:rPr>
              <a:t>Video for 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</a:rPr>
              <a:t>W</a:t>
            </a:r>
            <a:r>
              <a:rPr b="1" sz="4800" spc="-1" strike="noStrike">
                <a:solidFill>
                  <a:srgbClr val="ff0000"/>
                </a:solidFill>
                <a:latin typeface="Angsana New"/>
              </a:rPr>
              <a:t>indows  librar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 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(</a:t>
            </a:r>
            <a:r>
              <a:rPr b="1" lang="hi-IN" sz="4400" spc="-1" strike="noStrike">
                <a:solidFill>
                  <a:srgbClr val="333399"/>
                </a:solidFill>
                <a:latin typeface="Angsana New"/>
              </a:rPr>
              <a:t>ผู้ใช้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381800" y="213372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2133720"/>
            <a:ext cx="1440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ตัวขับ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7440" y="2924280"/>
            <a:ext cx="1800360" cy="2089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โปรแกรมประยุกต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บบปฏิบัติ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573360"/>
            <a:ext cx="1079280" cy="865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ผู้ใช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400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429080" y="2565360"/>
            <a:ext cx="79236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5440" y="256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81800" y="314172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141720"/>
            <a:ext cx="1440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ตัวขับ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05440" y="35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465300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4653000"/>
            <a:ext cx="1440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ตัวขับ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04000" y="50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27640" y="3500280"/>
            <a:ext cx="792000" cy="43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4149720"/>
            <a:ext cx="71280" cy="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7080" y="4292640"/>
            <a:ext cx="71280" cy="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77080" y="4437000"/>
            <a:ext cx="71280" cy="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76720" y="1916280"/>
            <a:ext cx="2735280" cy="4465440"/>
          </a:xfrm>
          <a:prstGeom prst="rect">
            <a:avLst/>
          </a:prstGeom>
          <a:solidFill>
            <a:srgbClr val="d7fe7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(Application Programming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 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(</a:t>
            </a:r>
            <a:r>
              <a:rPr b="1" lang="hi-IN" sz="4400" spc="-1" strike="noStrike">
                <a:solidFill>
                  <a:srgbClr val="333399"/>
                </a:solidFill>
                <a:latin typeface="Angsana New"/>
              </a:rPr>
              <a:t>นักพัฒนา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2133720"/>
            <a:ext cx="100836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2205000"/>
            <a:ext cx="143964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Specific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3429000"/>
            <a:ext cx="107964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นักพัฒน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411280" y="263700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2565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05440" y="3141720"/>
            <a:ext cx="100836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80000" y="3573000"/>
            <a:ext cx="10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515772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458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149720"/>
            <a:ext cx="143964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Standard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4149720"/>
            <a:ext cx="100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4797360"/>
            <a:ext cx="10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3932280"/>
            <a:ext cx="13687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564000" y="1989000"/>
            <a:ext cx="2303280" cy="4608720"/>
          </a:xfrm>
          <a:prstGeom prst="rect">
            <a:avLst/>
          </a:prstGeom>
          <a:solidFill>
            <a:srgbClr val="d7fe7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Windows 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ด้วย 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Windows A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1916280"/>
            <a:ext cx="10065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2131920"/>
            <a:ext cx="1440000" cy="57636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ngsana New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3213000"/>
            <a:ext cx="1079640" cy="865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นักพัฒน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11280" y="2637000"/>
            <a:ext cx="1513080" cy="86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580000" y="2204640"/>
            <a:ext cx="107964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242100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2852640"/>
            <a:ext cx="1440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irec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256536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2563920"/>
            <a:ext cx="10065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321156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04000" y="393228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457992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522756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594828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95640" y="5157720"/>
            <a:ext cx="1440000" cy="57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4365720"/>
            <a:ext cx="144720" cy="7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4581360"/>
            <a:ext cx="144720" cy="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797360"/>
            <a:ext cx="144720" cy="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3860640"/>
            <a:ext cx="1440000" cy="136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80000" y="306864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0000" y="378936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3933720"/>
            <a:ext cx="1079640" cy="93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5373720"/>
            <a:ext cx="115272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551664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3573360"/>
            <a:ext cx="1440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321300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987640" y="1989000"/>
            <a:ext cx="2879640" cy="4608720"/>
          </a:xfrm>
          <a:prstGeom prst="rect">
            <a:avLst/>
          </a:prstGeom>
          <a:solidFill>
            <a:srgbClr val="d7fe7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Multimedia 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ด้วย 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Multimedia A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1916280"/>
            <a:ext cx="10065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2131920"/>
            <a:ext cx="2232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Multimedia Control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3213000"/>
            <a:ext cx="1079280" cy="865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นักพัฒน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763640" y="2565000"/>
            <a:ext cx="151308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580000" y="220500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263700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3213000"/>
            <a:ext cx="2232000" cy="86364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ngsana New"/>
              </a:rPr>
              <a:t>VF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ngsana New"/>
              </a:rPr>
              <a:t>(Video for Wind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2781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3645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2563920"/>
            <a:ext cx="10065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321156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04000" y="393228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457992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522756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5948280"/>
            <a:ext cx="10065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4869000"/>
            <a:ext cx="208764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4221000"/>
            <a:ext cx="144720" cy="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4437000"/>
            <a:ext cx="144720" cy="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56000" y="4653000"/>
            <a:ext cx="144720" cy="7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3789360"/>
            <a:ext cx="143964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80000" y="3500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3645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0000" y="3860640"/>
            <a:ext cx="107964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1640" y="522936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5373720"/>
            <a:ext cx="115272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84360" y="1989000"/>
            <a:ext cx="3960720" cy="4392720"/>
          </a:xfrm>
          <a:prstGeom prst="rect">
            <a:avLst/>
          </a:prstGeom>
          <a:solidFill>
            <a:srgbClr val="d7fe7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Video for Window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 New"/>
              </a:rPr>
              <a:t>การติดต่อกับอุปกรณ์ด้วย </a:t>
            </a:r>
            <a:r>
              <a:rPr b="1" sz="4400" spc="-1" strike="noStrike">
                <a:solidFill>
                  <a:srgbClr val="333399"/>
                </a:solidFill>
                <a:latin typeface="Angsana New"/>
              </a:rPr>
              <a:t>Video for windows</a:t>
            </a:r>
            <a:r>
              <a:rPr b="1" lang="en-US" sz="4400" spc="-1" strike="noStrike">
                <a:solidFill>
                  <a:srgbClr val="333399"/>
                </a:solidFill>
                <a:latin typeface="Angsana New"/>
              </a:rPr>
              <a:t> A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2924280"/>
            <a:ext cx="129384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รับภา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9440" y="2205000"/>
            <a:ext cx="187164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1. 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CreateCaptureWindo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3357720"/>
            <a:ext cx="107928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นักพัฒน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9440" y="2924280"/>
            <a:ext cx="187164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2. 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DriverConne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9440" y="3645000"/>
            <a:ext cx="1871640" cy="57456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3. P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Previe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38880" y="2205000"/>
            <a:ext cx="129384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อุปกรณ์แสดงภา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9440" y="4365720"/>
            <a:ext cx="1871640" cy="57456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4. 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Previe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89440" y="5084640"/>
            <a:ext cx="1871640" cy="57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5. Dis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ngsana New"/>
              </a:rPr>
              <a:t>capDriverDisconne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249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836720" y="2492280"/>
            <a:ext cx="10810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36720" y="3213000"/>
            <a:ext cx="1008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3213000"/>
            <a:ext cx="216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672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3645000"/>
            <a:ext cx="1008000" cy="574560"/>
          </a:xfrm>
          <a:prstGeom prst="rect">
            <a:avLst/>
          </a:prstGeom>
          <a:solidFill>
            <a:srgbClr val="a0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หน่วยความจ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443640" y="256536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516360" y="3284640"/>
            <a:ext cx="57636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003640" y="4005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393372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4076640"/>
            <a:ext cx="100800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932360" y="4292640"/>
            <a:ext cx="129528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0160" y="465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20840" y="39337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333399"/>
                </a:solidFill>
                <a:latin typeface="Angsana New"/>
              </a:rPr>
              <a:t>การเรียกใช้ </a:t>
            </a:r>
            <a:r>
              <a:rPr b="1" sz="4400" spc="-1" strike="noStrike">
                <a:solidFill>
                  <a:srgbClr val="333399"/>
                </a:solidFill>
                <a:latin typeface="Angsana New"/>
              </a:rPr>
              <a:t>Video for windows 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1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ร้างพื้นที่ในการแสดงผล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Create a capture window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2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ิดต่อกับอุปกรณ์รับภาพ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Connect to capture driver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3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สดงภาพบนพื้นที่ที่เตรียมไว้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Preview video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4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จับภาพที่แสดงลงแฟ้มหรือหน่วยความจำตำแหน่งอื่น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Capture video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5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ยกเลิกการติดต่อกับอุปกรณ์รับภาพ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sz="3200" spc="-1" strike="noStrike">
                <a:solidFill>
                  <a:srgbClr val="000000"/>
                </a:solidFill>
                <a:latin typeface="Angsana New"/>
              </a:rPr>
              <a:t>Disconnect from capture driver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03:41:03Z</dcterms:created>
  <dc:creator>Witchanet</dc:creator>
  <dc:description/>
  <dc:language>en-US</dc:language>
  <cp:lastModifiedBy>Witchanet</cp:lastModifiedBy>
  <dcterms:modified xsi:type="dcterms:W3CDTF">2004-09-14T08:42:07Z</dcterms:modified>
  <cp:revision>11</cp:revision>
  <dc:subject/>
  <dc:title>การบันทึกภาพจากอุปกรณ์รับภาพ</dc:title>
</cp:coreProperties>
</file>